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423540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604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848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152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848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5152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681120"/>
            <a:ext cx="7786800" cy="54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604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50000">
              <a:srgbClr val="0000f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31400" cy="6845400"/>
              <a:chOff x="0" y="0"/>
              <a:chExt cx="9131400" cy="68454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68808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58240" y="0"/>
                <a:ext cx="171360" cy="684540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4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173160" cy="684216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4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406440" y="206280"/>
              <a:ext cx="8359560" cy="1665360"/>
              <a:chOff x="406440" y="206280"/>
              <a:chExt cx="8359560" cy="166536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406440" y="646200"/>
                <a:ext cx="8359560" cy="1225440"/>
                <a:chOff x="406440" y="646200"/>
                <a:chExt cx="8359560" cy="122544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407880" y="660240"/>
                  <a:ext cx="8342280" cy="1195560"/>
                  <a:chOff x="407880" y="660240"/>
                  <a:chExt cx="8342280" cy="11955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407880" y="660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407880" y="957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407880" y="1258920"/>
                    <a:ext cx="831852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07880" y="1555920"/>
                    <a:ext cx="834228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07880" y="1855800"/>
                    <a:ext cx="82965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" name=""/>
                <p:cNvSpPr/>
                <p:nvPr/>
              </p:nvSpPr>
              <p:spPr>
                <a:xfrm>
                  <a:off x="406440" y="646200"/>
                  <a:ext cx="11124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1ce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655120" y="646200"/>
                  <a:ext cx="11088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1ce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698400" y="206280"/>
                <a:ext cx="7767720" cy="1462320"/>
                <a:chOff x="698400" y="206280"/>
                <a:chExt cx="7767720" cy="1462320"/>
              </a:xfrm>
            </p:grpSpPr>
            <p:grpSp>
              <p:nvGrpSpPr>
                <p:cNvPr id="17" name=""/>
                <p:cNvGrpSpPr/>
                <p:nvPr/>
              </p:nvGrpSpPr>
              <p:grpSpPr>
                <a:xfrm>
                  <a:off x="698400" y="938160"/>
                  <a:ext cx="550800" cy="730440"/>
                  <a:chOff x="698400" y="938160"/>
                  <a:chExt cx="550800" cy="73044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971640" y="968400"/>
                    <a:ext cx="144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60">
                        <a:moveTo>
                          <a:pt x="0" y="359"/>
                        </a:move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963720" y="938160"/>
                    <a:ext cx="28548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19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4" y="0"/>
                        </a:lnTo>
                        <a:lnTo>
                          <a:pt x="46" y="8"/>
                        </a:lnTo>
                        <a:lnTo>
                          <a:pt x="57" y="23"/>
                        </a:lnTo>
                        <a:lnTo>
                          <a:pt x="81" y="31"/>
                        </a:lnTo>
                        <a:lnTo>
                          <a:pt x="104" y="39"/>
                        </a:lnTo>
                        <a:lnTo>
                          <a:pt x="127" y="31"/>
                        </a:lnTo>
                        <a:lnTo>
                          <a:pt x="150" y="23"/>
                        </a:lnTo>
                        <a:lnTo>
                          <a:pt x="161" y="16"/>
                        </a:lnTo>
                        <a:lnTo>
                          <a:pt x="179" y="0"/>
                        </a:lnTo>
                        <a:lnTo>
                          <a:pt x="155" y="47"/>
                        </a:lnTo>
                        <a:lnTo>
                          <a:pt x="138" y="87"/>
                        </a:lnTo>
                        <a:lnTo>
                          <a:pt x="115" y="110"/>
                        </a:lnTo>
                        <a:lnTo>
                          <a:pt x="92" y="118"/>
                        </a:lnTo>
                        <a:lnTo>
                          <a:pt x="63" y="118"/>
                        </a:lnTo>
                        <a:lnTo>
                          <a:pt x="46" y="102"/>
                        </a:lnTo>
                        <a:lnTo>
                          <a:pt x="40" y="102"/>
                        </a:lnTo>
                        <a:lnTo>
                          <a:pt x="29" y="95"/>
                        </a:lnTo>
                        <a:lnTo>
                          <a:pt x="17" y="95"/>
                        </a:lnTo>
                        <a:lnTo>
                          <a:pt x="0" y="9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698400" y="1465200"/>
                    <a:ext cx="28440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128">
                        <a:moveTo>
                          <a:pt x="104" y="121"/>
                        </a:moveTo>
                        <a:lnTo>
                          <a:pt x="141" y="102"/>
                        </a:lnTo>
                        <a:lnTo>
                          <a:pt x="166" y="83"/>
                        </a:lnTo>
                        <a:lnTo>
                          <a:pt x="178" y="58"/>
                        </a:lnTo>
                        <a:lnTo>
                          <a:pt x="178" y="38"/>
                        </a:lnTo>
                        <a:lnTo>
                          <a:pt x="166" y="19"/>
                        </a:lnTo>
                        <a:lnTo>
                          <a:pt x="141" y="6"/>
                        </a:lnTo>
                        <a:lnTo>
                          <a:pt x="110" y="0"/>
                        </a:lnTo>
                        <a:lnTo>
                          <a:pt x="74" y="6"/>
                        </a:lnTo>
                        <a:lnTo>
                          <a:pt x="40" y="22"/>
                        </a:lnTo>
                        <a:lnTo>
                          <a:pt x="12" y="44"/>
                        </a:lnTo>
                        <a:lnTo>
                          <a:pt x="0" y="70"/>
                        </a:lnTo>
                        <a:lnTo>
                          <a:pt x="0" y="89"/>
                        </a:lnTo>
                        <a:lnTo>
                          <a:pt x="12" y="108"/>
                        </a:lnTo>
                        <a:lnTo>
                          <a:pt x="37" y="121"/>
                        </a:lnTo>
                        <a:lnTo>
                          <a:pt x="68" y="127"/>
                        </a:lnTo>
                        <a:lnTo>
                          <a:pt x="104" y="121"/>
                        </a:lnTo>
                      </a:path>
                    </a:pathLst>
                  </a:cu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686720" y="484200"/>
                  <a:ext cx="779400" cy="826920"/>
                  <a:chOff x="7686720" y="484200"/>
                  <a:chExt cx="779400" cy="8269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>
                    <a:off x="7967520" y="631800"/>
                    <a:ext cx="1800" cy="5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50">
                        <a:moveTo>
                          <a:pt x="0" y="349"/>
                        </a:move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686720" y="1114560"/>
                    <a:ext cx="29196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124">
                        <a:moveTo>
                          <a:pt x="107" y="117"/>
                        </a:moveTo>
                        <a:lnTo>
                          <a:pt x="145" y="99"/>
                        </a:lnTo>
                        <a:lnTo>
                          <a:pt x="170" y="80"/>
                        </a:lnTo>
                        <a:lnTo>
                          <a:pt x="183" y="56"/>
                        </a:lnTo>
                        <a:lnTo>
                          <a:pt x="183" y="37"/>
                        </a:lnTo>
                        <a:lnTo>
                          <a:pt x="170" y="18"/>
                        </a:lnTo>
                        <a:lnTo>
                          <a:pt x="145" y="6"/>
                        </a:lnTo>
                        <a:lnTo>
                          <a:pt x="113" y="0"/>
                        </a:lnTo>
                        <a:lnTo>
                          <a:pt x="76" y="6"/>
                        </a:lnTo>
                        <a:lnTo>
                          <a:pt x="38" y="24"/>
                        </a:lnTo>
                        <a:lnTo>
                          <a:pt x="13" y="43"/>
                        </a:lnTo>
                        <a:lnTo>
                          <a:pt x="0" y="68"/>
                        </a:lnTo>
                        <a:lnTo>
                          <a:pt x="0" y="86"/>
                        </a:lnTo>
                        <a:lnTo>
                          <a:pt x="13" y="105"/>
                        </a:lnTo>
                        <a:lnTo>
                          <a:pt x="38" y="117"/>
                        </a:lnTo>
                        <a:lnTo>
                          <a:pt x="70" y="123"/>
                        </a:lnTo>
                        <a:lnTo>
                          <a:pt x="107" y="117"/>
                        </a:lnTo>
                      </a:path>
                    </a:pathLst>
                  </a:cu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7964640" y="484200"/>
                    <a:ext cx="48240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199">
                        <a:moveTo>
                          <a:pt x="303" y="115"/>
                        </a:moveTo>
                        <a:lnTo>
                          <a:pt x="290" y="134"/>
                        </a:lnTo>
                        <a:lnTo>
                          <a:pt x="270" y="147"/>
                        </a:lnTo>
                        <a:lnTo>
                          <a:pt x="251" y="153"/>
                        </a:lnTo>
                        <a:lnTo>
                          <a:pt x="237" y="159"/>
                        </a:lnTo>
                        <a:lnTo>
                          <a:pt x="197" y="159"/>
                        </a:lnTo>
                        <a:lnTo>
                          <a:pt x="158" y="159"/>
                        </a:lnTo>
                        <a:lnTo>
                          <a:pt x="119" y="153"/>
                        </a:lnTo>
                        <a:lnTo>
                          <a:pt x="79" y="159"/>
                        </a:lnTo>
                        <a:lnTo>
                          <a:pt x="59" y="159"/>
                        </a:lnTo>
                        <a:lnTo>
                          <a:pt x="39" y="172"/>
                        </a:lnTo>
                        <a:lnTo>
                          <a:pt x="20" y="179"/>
                        </a:lnTo>
                        <a:lnTo>
                          <a:pt x="0" y="198"/>
                        </a:lnTo>
                        <a:lnTo>
                          <a:pt x="0" y="83"/>
                        </a:lnTo>
                        <a:lnTo>
                          <a:pt x="20" y="63"/>
                        </a:lnTo>
                        <a:lnTo>
                          <a:pt x="39" y="51"/>
                        </a:lnTo>
                        <a:lnTo>
                          <a:pt x="59" y="44"/>
                        </a:lnTo>
                        <a:lnTo>
                          <a:pt x="79" y="38"/>
                        </a:lnTo>
                        <a:lnTo>
                          <a:pt x="119" y="38"/>
                        </a:lnTo>
                        <a:lnTo>
                          <a:pt x="158" y="44"/>
                        </a:lnTo>
                        <a:lnTo>
                          <a:pt x="197" y="44"/>
                        </a:lnTo>
                        <a:lnTo>
                          <a:pt x="237" y="38"/>
                        </a:lnTo>
                        <a:lnTo>
                          <a:pt x="251" y="38"/>
                        </a:lnTo>
                        <a:lnTo>
                          <a:pt x="270" y="25"/>
                        </a:lnTo>
                        <a:lnTo>
                          <a:pt x="290" y="19"/>
                        </a:lnTo>
                        <a:lnTo>
                          <a:pt x="303" y="0"/>
                        </a:lnTo>
                        <a:lnTo>
                          <a:pt x="303" y="115"/>
                        </a:lnTo>
                      </a:path>
                    </a:pathLst>
                  </a:cu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8454960" y="495360"/>
                    <a:ext cx="18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66">
                        <a:moveTo>
                          <a:pt x="0" y="365"/>
                        </a:move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8175600" y="1017720"/>
                    <a:ext cx="29052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123">
                        <a:moveTo>
                          <a:pt x="107" y="116"/>
                        </a:moveTo>
                        <a:lnTo>
                          <a:pt x="144" y="98"/>
                        </a:lnTo>
                        <a:lnTo>
                          <a:pt x="170" y="80"/>
                        </a:lnTo>
                        <a:lnTo>
                          <a:pt x="182" y="55"/>
                        </a:lnTo>
                        <a:lnTo>
                          <a:pt x="182" y="36"/>
                        </a:lnTo>
                        <a:lnTo>
                          <a:pt x="170" y="18"/>
                        </a:lnTo>
                        <a:lnTo>
                          <a:pt x="144" y="6"/>
                        </a:lnTo>
                        <a:lnTo>
                          <a:pt x="113" y="0"/>
                        </a:lnTo>
                        <a:lnTo>
                          <a:pt x="75" y="6"/>
                        </a:lnTo>
                        <a:lnTo>
                          <a:pt x="37" y="24"/>
                        </a:lnTo>
                        <a:lnTo>
                          <a:pt x="12" y="42"/>
                        </a:lnTo>
                        <a:lnTo>
                          <a:pt x="0" y="67"/>
                        </a:lnTo>
                        <a:lnTo>
                          <a:pt x="0" y="86"/>
                        </a:lnTo>
                        <a:lnTo>
                          <a:pt x="12" y="104"/>
                        </a:lnTo>
                        <a:lnTo>
                          <a:pt x="37" y="116"/>
                        </a:lnTo>
                        <a:lnTo>
                          <a:pt x="69" y="122"/>
                        </a:lnTo>
                        <a:lnTo>
                          <a:pt x="107" y="116"/>
                        </a:lnTo>
                      </a:path>
                    </a:pathLst>
                  </a:cu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1413000" y="206280"/>
                  <a:ext cx="796680" cy="836640"/>
                  <a:chOff x="1413000" y="206280"/>
                  <a:chExt cx="796680" cy="836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>
                    <a:off x="1704960" y="355680"/>
                    <a:ext cx="1440" cy="56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54">
                        <a:moveTo>
                          <a:pt x="0" y="353"/>
                        </a:move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1413000" y="841320"/>
                    <a:ext cx="303120" cy="20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127">
                        <a:moveTo>
                          <a:pt x="111" y="120"/>
                        </a:moveTo>
                        <a:lnTo>
                          <a:pt x="150" y="101"/>
                        </a:lnTo>
                        <a:lnTo>
                          <a:pt x="177" y="82"/>
                        </a:lnTo>
                        <a:lnTo>
                          <a:pt x="190" y="57"/>
                        </a:lnTo>
                        <a:lnTo>
                          <a:pt x="190" y="38"/>
                        </a:lnTo>
                        <a:lnTo>
                          <a:pt x="177" y="19"/>
                        </a:lnTo>
                        <a:lnTo>
                          <a:pt x="150" y="6"/>
                        </a:lnTo>
                        <a:lnTo>
                          <a:pt x="118" y="0"/>
                        </a:lnTo>
                        <a:lnTo>
                          <a:pt x="79" y="6"/>
                        </a:lnTo>
                        <a:lnTo>
                          <a:pt x="39" y="25"/>
                        </a:lnTo>
                        <a:lnTo>
                          <a:pt x="13" y="44"/>
                        </a:lnTo>
                        <a:lnTo>
                          <a:pt x="0" y="70"/>
                        </a:lnTo>
                        <a:lnTo>
                          <a:pt x="0" y="88"/>
                        </a:lnTo>
                        <a:lnTo>
                          <a:pt x="13" y="107"/>
                        </a:lnTo>
                        <a:lnTo>
                          <a:pt x="39" y="120"/>
                        </a:lnTo>
                        <a:lnTo>
                          <a:pt x="72" y="126"/>
                        </a:lnTo>
                        <a:lnTo>
                          <a:pt x="111" y="120"/>
                        </a:lnTo>
                      </a:path>
                    </a:pathLst>
                  </a:cu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697040" y="206280"/>
                    <a:ext cx="49536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205">
                        <a:moveTo>
                          <a:pt x="311" y="118"/>
                        </a:moveTo>
                        <a:lnTo>
                          <a:pt x="298" y="138"/>
                        </a:lnTo>
                        <a:lnTo>
                          <a:pt x="277" y="151"/>
                        </a:lnTo>
                        <a:lnTo>
                          <a:pt x="257" y="158"/>
                        </a:lnTo>
                        <a:lnTo>
                          <a:pt x="244" y="164"/>
                        </a:lnTo>
                        <a:lnTo>
                          <a:pt x="203" y="164"/>
                        </a:lnTo>
                        <a:lnTo>
                          <a:pt x="162" y="164"/>
                        </a:lnTo>
                        <a:lnTo>
                          <a:pt x="122" y="158"/>
                        </a:lnTo>
                        <a:lnTo>
                          <a:pt x="81" y="164"/>
                        </a:lnTo>
                        <a:lnTo>
                          <a:pt x="61" y="164"/>
                        </a:lnTo>
                        <a:lnTo>
                          <a:pt x="40" y="177"/>
                        </a:lnTo>
                        <a:lnTo>
                          <a:pt x="20" y="184"/>
                        </a:lnTo>
                        <a:lnTo>
                          <a:pt x="0" y="204"/>
                        </a:lnTo>
                        <a:lnTo>
                          <a:pt x="0" y="86"/>
                        </a:lnTo>
                        <a:lnTo>
                          <a:pt x="20" y="65"/>
                        </a:lnTo>
                        <a:lnTo>
                          <a:pt x="40" y="52"/>
                        </a:lnTo>
                        <a:lnTo>
                          <a:pt x="61" y="46"/>
                        </a:lnTo>
                        <a:lnTo>
                          <a:pt x="81" y="39"/>
                        </a:lnTo>
                        <a:lnTo>
                          <a:pt x="122" y="39"/>
                        </a:lnTo>
                        <a:lnTo>
                          <a:pt x="162" y="46"/>
                        </a:lnTo>
                        <a:lnTo>
                          <a:pt x="203" y="46"/>
                        </a:lnTo>
                        <a:lnTo>
                          <a:pt x="244" y="39"/>
                        </a:lnTo>
                        <a:lnTo>
                          <a:pt x="257" y="39"/>
                        </a:lnTo>
                        <a:lnTo>
                          <a:pt x="277" y="26"/>
                        </a:lnTo>
                        <a:lnTo>
                          <a:pt x="298" y="20"/>
                        </a:lnTo>
                        <a:lnTo>
                          <a:pt x="311" y="0"/>
                        </a:lnTo>
                        <a:lnTo>
                          <a:pt x="311" y="118"/>
                        </a:lnTo>
                      </a:path>
                    </a:pathLst>
                  </a:cu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2198520" y="216000"/>
                    <a:ext cx="18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64">
                        <a:moveTo>
                          <a:pt x="0" y="363"/>
                        </a:move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1906560" y="714240"/>
                    <a:ext cx="303120" cy="20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127">
                        <a:moveTo>
                          <a:pt x="111" y="120"/>
                        </a:moveTo>
                        <a:lnTo>
                          <a:pt x="150" y="101"/>
                        </a:lnTo>
                        <a:lnTo>
                          <a:pt x="177" y="82"/>
                        </a:lnTo>
                        <a:lnTo>
                          <a:pt x="190" y="57"/>
                        </a:lnTo>
                        <a:lnTo>
                          <a:pt x="190" y="38"/>
                        </a:lnTo>
                        <a:lnTo>
                          <a:pt x="177" y="19"/>
                        </a:lnTo>
                        <a:lnTo>
                          <a:pt x="150" y="6"/>
                        </a:lnTo>
                        <a:lnTo>
                          <a:pt x="118" y="0"/>
                        </a:lnTo>
                        <a:lnTo>
                          <a:pt x="79" y="6"/>
                        </a:lnTo>
                        <a:lnTo>
                          <a:pt x="39" y="25"/>
                        </a:lnTo>
                        <a:lnTo>
                          <a:pt x="13" y="44"/>
                        </a:lnTo>
                        <a:lnTo>
                          <a:pt x="0" y="70"/>
                        </a:lnTo>
                        <a:lnTo>
                          <a:pt x="0" y="88"/>
                        </a:lnTo>
                        <a:lnTo>
                          <a:pt x="13" y="107"/>
                        </a:lnTo>
                        <a:lnTo>
                          <a:pt x="39" y="120"/>
                        </a:lnTo>
                        <a:lnTo>
                          <a:pt x="72" y="126"/>
                        </a:lnTo>
                        <a:lnTo>
                          <a:pt x="111" y="120"/>
                        </a:lnTo>
                      </a:path>
                    </a:pathLst>
                  </a:cu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f0e3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f91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1ce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1ce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50000">
              <a:srgbClr val="0000f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5226120"/>
            <a:ext cx="7747200" cy="1117440"/>
          </a:xfrm>
          <a:prstGeom prst="rect">
            <a:avLst/>
          </a:prstGeom>
          <a:noFill/>
          <a:ln w="25560">
            <a:solidFill>
              <a:srgbClr val="c1ce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rus BT"/>
              </a:rPr>
              <a:t>CURSOS DE MÚSIC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93920" y="2981160"/>
            <a:ext cx="640080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1ceff"/>
                </a:solidFill>
                <a:latin typeface="Arial"/>
              </a:rPr>
              <a:t>INSTRUMENTAL MUSIC BCN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53280" y="571680"/>
            <a:ext cx="3837600" cy="1368720"/>
          </a:xfrm>
          <a:prstGeom prst="rect">
            <a:avLst/>
          </a:prstGeom>
          <a:noFill/>
          <a:ln w="25560">
            <a:solidFill>
              <a:srgbClr val="c1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1ceff"/>
                </a:solidFill>
                <a:latin typeface="Book Antiqua"/>
              </a:rPr>
              <a:t>C/Valencia, 344 1ª pla.</a:t>
            </a:r>
            <a:endParaRPr b="0" lang="en-US" sz="2800" spc="-1" strike="noStrike">
              <a:solidFill>
                <a:srgbClr val="c1ce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1ceff"/>
                </a:solidFill>
                <a:latin typeface="Book Antiqua"/>
              </a:rPr>
              <a:t>08034 BARCELONA</a:t>
            </a:r>
            <a:endParaRPr b="0" lang="en-US" sz="2800" spc="-1" strike="noStrike">
              <a:solidFill>
                <a:srgbClr val="c1ce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1ceff"/>
                </a:solidFill>
                <a:latin typeface="Book Antiqua"/>
              </a:rPr>
              <a:t>240-00-16</a:t>
            </a:r>
            <a:endParaRPr b="0" lang="en-US" sz="2800" spc="-1" strike="noStrike">
              <a:solidFill>
                <a:srgbClr val="c1ce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50000">
              <a:srgbClr val="0000f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Desdemona"/>
              </a:rPr>
              <a:t>BUSCA EL ARTISTA QUE TIENES DENTRO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7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1ceff"/>
                </a:solidFill>
                <a:latin typeface="Arial"/>
              </a:rPr>
              <a:t>Aprende con nosotros a tocar uno de nuestros instrumento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1ceff"/>
                </a:solidFill>
                <a:latin typeface="Arial"/>
              </a:rPr>
              <a:t>Disponemos de los mejores profesores para su aprendizaj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737320" y="1523880"/>
          <a:ext cx="257472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7320" y="1523880"/>
                    <a:ext cx="257472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50000">
              <a:srgbClr val="0000f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Desdemona"/>
              </a:rPr>
              <a:t>ANIMATE, NUNCA ES TARDE PARA APREND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805120"/>
            <a:ext cx="7786800" cy="26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1ceff"/>
                </a:solidFill>
                <a:latin typeface="Arial"/>
              </a:rPr>
              <a:t>No importa la eda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1ceff"/>
                </a:solidFill>
                <a:latin typeface="Arial"/>
              </a:rPr>
              <a:t>Disponibilidad de horario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1ceff"/>
                </a:solidFill>
                <a:latin typeface="Arial"/>
              </a:rPr>
              <a:t>Todo tipo de instrumentos: desde el violín hasta la bandurria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50000">
              <a:srgbClr val="0000f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FECHAS DE LOS CURSO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69960" y="2174760"/>
          <a:ext cx="8129520" cy="37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174760"/>
                    <a:ext cx="8129520" cy="3757680"/>
                  </a:xfrm>
                  <a:prstGeom prst="rect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50000">
              <a:srgbClr val="0000f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00"/>
                </a:solidFill>
                <a:latin typeface="Desdemona"/>
              </a:rPr>
              <a:t>DO RE MI FA SOL LA SI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0080" y="1841400"/>
            <a:ext cx="3438360" cy="486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1ceff"/>
                </a:solidFill>
                <a:latin typeface="Arial"/>
              </a:rPr>
              <a:t>Al finalizar el curso se te entregara un diploma acreditativo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1ceff"/>
                </a:solidFill>
                <a:latin typeface="Arial"/>
              </a:rPr>
              <a:t>Organización de orquesta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943520" y="1757520"/>
          <a:ext cx="3794040" cy="47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3520" y="1757520"/>
                    <a:ext cx="3794040" cy="47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50000">
              <a:srgbClr val="0000f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Desdemona"/>
              </a:rPr>
              <a:t>PRECIOS ASEQUIBL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085840"/>
            <a:ext cx="6195960" cy="247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1ceff"/>
                </a:solidFill>
                <a:latin typeface="Arial"/>
              </a:rPr>
              <a:t>Matricula gratis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1ceff"/>
                </a:solidFill>
                <a:latin typeface="Arial"/>
              </a:rPr>
              <a:t>Facilidades de pago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1ceff"/>
                </a:solidFill>
                <a:latin typeface="Arial"/>
              </a:rPr>
              <a:t>Material a cargo de la empresa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58800" y="4560840"/>
          <a:ext cx="6195960" cy="22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4560840"/>
                    <a:ext cx="619596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50000">
              <a:srgbClr val="0000f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Desdemona"/>
              </a:rPr>
              <a:t>SOMOS EL NÚMERO 1 EN EL RAMO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9720" y="207468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1ceff"/>
                </a:solidFill>
                <a:latin typeface="Britannic Bold"/>
              </a:rPr>
              <a:t>Elija el instrumento que siempre ha deseado tocar y nosotros le convertiremos en una ..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14880" y="3505320"/>
            <a:ext cx="2774880" cy="2055600"/>
          </a:xfrm>
          <a:prstGeom prst="star5">
            <a:avLst/>
          </a:prstGeom>
          <a:solidFill>
            <a:srgbClr val="c1ceff"/>
          </a:solidFill>
          <a:ln w="12600">
            <a:solidFill>
              <a:srgbClr val="c1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50000">
              <a:srgbClr val="0000f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87160" y="525600"/>
            <a:ext cx="7080120" cy="253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Desdemona"/>
              </a:rPr>
              <a:t>LLÁMENOS O VENGA A VISITARNOS PERSONALMENTE, LE INFORMAREMOS DE NUESTROS CURSO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03240" y="4071960"/>
            <a:ext cx="4581720" cy="198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1ceff"/>
                </a:solidFill>
                <a:latin typeface="Arial"/>
              </a:rPr>
              <a:t>Telf. 240-00-16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1ceff"/>
                </a:solidFill>
                <a:latin typeface="Arial"/>
              </a:rPr>
              <a:t>Horario de oficina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1ceff"/>
                </a:solidFill>
                <a:latin typeface="Arial"/>
              </a:rPr>
              <a:t>9:30 a 20:00 h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82520" y="3103560"/>
          <a:ext cx="339084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3103560"/>
                    <a:ext cx="339084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4T12:01:42Z</dcterms:created>
  <dc:creator/>
  <dc:description/>
  <dc:language>en-US</dc:language>
  <cp:lastModifiedBy>Ismael Fanlo</cp:lastModifiedBy>
  <cp:lastPrinted>1997-01-24T10:32:14Z</cp:lastPrinted>
  <dcterms:modified xsi:type="dcterms:W3CDTF">2003-06-03T11:17:16Z</dcterms:modified>
  <cp:revision>4</cp:revision>
  <dc:subject/>
  <dc:title>Vender una idea o un producto</dc:title>
</cp:coreProperties>
</file>