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753-A319-4924-9AF8-C5151A1B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353-B7C5-4399-9BB8-8AC69079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6A2-A218-48E2-ACFA-69CB9767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225-3C26-4D2F-9318-434FAEC3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742B-6173-4782-B424-3ABAFDF6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C287-5C61-43B7-99FD-A0BD9775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96EA-022F-4599-BDBE-1B329395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F856-7DC5-4DBE-A01C-53D03B93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9A53-6F65-4D51-B84B-1F62F0E7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243E-0598-4048-903A-DF015929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2FE8-CD99-48CB-8D5A-C51F0983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FF9-384F-4287-BC30-D0F6C291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17FB-1C58-4EE2-BE49-14928822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30CE-EFFC-4182-920E-B877B750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2A85-CD07-4AD3-BCF5-33D2014B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910F-48AA-4EAD-9F88-51D866C0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E83E-EEDC-4251-9C74-67B15DE3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7C2-6618-4380-806D-5678B9B4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9ED-A598-4789-80F2-BC4936FC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81C-6AA0-4FF9-B705-AF044151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780-C4E2-4DF5-83A3-777C51C3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DAF-8CA6-4EED-BEB1-EFBD113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D18-EDA2-4275-8284-CB8EF2FF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991-76A2-4B12-BE79-15900F87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9ABE-5E4F-4D7B-BDFE-4EF1D3D3B60F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 rot="16200000">
            <a:off x="-1828440" y="380988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3671-C347-4797-9F4E-144A06663E3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F7B3-FA15-4257-AA68-A44D2F406E72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3812-BCCE-4259-BA63-DC8159E297D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CENTRO DE ESTUDIOS MUSICALES CSC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eaeaea"/>
                </a:solidFill>
                <a:latin typeface="Bookman Old Style"/>
              </a:rPr>
              <a:t>Donde los virtuosos se form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nde los virtuosos se fo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CC06-FDC3-4EAF-BD30-8ED3C24D8F2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1F592AE-8EBE-41C2-9FCF-A703908F7201}" type="datetime1">
              <a:rPr lang="en-US"/>
              <a:t>07/31/26</a:t>
            </a:fld>
          </a:p>
        </p:txBody>
      </p:sp>
    </p:spTree>
  </p:cSld>
  <p:transition spd="slow" advTm="3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Desdemona"/>
              </a:rPr>
              <a:t>SOMOS EL NÚMERO 1 EN EL RAM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9720" y="207468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Britannic Bold"/>
              </a:rPr>
              <a:t>Elija el instrumento que siempre ha deseado tocar y nosotros le convertiremos en una .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14880" y="3505320"/>
            <a:ext cx="2774880" cy="2055600"/>
          </a:xfrm>
          <a:prstGeom prst="star5">
            <a:avLst/>
          </a:prstGeom>
          <a:solidFill>
            <a:srgbClr val="ebd189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ff33"/>
                </a:solidFill>
                <a:latin typeface="Comic Sans MS"/>
              </a:rPr>
              <a:t>Estrell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962520"/>
            <a:ext cx="2590920" cy="1523880"/>
          </a:xfrm>
          <a:prstGeom prst="horizontalScroll">
            <a:avLst>
              <a:gd name="adj" fmla="val 12500"/>
            </a:avLst>
          </a:prstGeom>
          <a:solidFill>
            <a:srgbClr val="ebd189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ff33"/>
                </a:solidFill>
                <a:latin typeface="Comic Sans MS"/>
              </a:rPr>
              <a:t>Celebridad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nde los virtuosos se fo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406-BABC-487B-B121-BB155B84D5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EABAA-8631-47B7-89C7-1B3CFC1520C1}" type="datetime1">
              <a:rPr lang="en-US"/>
              <a:t>07/31/26</a:t>
            </a:fld>
          </a:p>
        </p:txBody>
      </p:sp>
    </p:spTree>
  </p:cSld>
  <p:transition spd="slow"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bd189"/>
                </a:solidFill>
                <a:latin typeface="Desdemona"/>
              </a:rPr>
              <a:t>BUSCA EL ARTISTA QUE TIENES DENTRO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7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prende con nosotros a tocar uno de nuestros instrument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sponemos de los mejores profesores para su aprendizaj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737320" y="1523880"/>
          <a:ext cx="257472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7320" y="1523880"/>
                    <a:ext cx="257472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nde los virtuosos se fo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364-E146-4A65-8357-F8397BB7D0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E8FC4-8019-4F83-A19E-B78A34ED3E9D}" type="datetime1">
              <a:rPr lang="en-US"/>
              <a:t>07/31/26</a:t>
            </a:fld>
          </a:p>
        </p:txBody>
      </p:sp>
    </p:spTree>
  </p:cSld>
  <p:transition spd="slow" advTm="3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Desdemona"/>
              </a:rPr>
              <a:t>ANIMATE, NUNCA ES TARDE PARA APREND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395440"/>
            <a:ext cx="7772400" cy="26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importa la eda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sponibilidad de horari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odo tipo de instrumentos: desde el violín hasta la bandurr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nde los virtuosos se fo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483-3CCD-40AC-8E52-927961A7B3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E7C14-4C6A-4C5D-AF61-FB7ABAF3C6EB}" type="datetime1">
              <a:rPr lang="en-US"/>
              <a:t>07/31/26</a:t>
            </a:fld>
          </a:p>
        </p:txBody>
      </p:sp>
    </p:spTree>
  </p:cSld>
  <p:transition spd="slow" advTm="3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FECHAS DE LOS CURS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69960" y="2174760"/>
          <a:ext cx="8129520" cy="37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174760"/>
                    <a:ext cx="8129520" cy="3757680"/>
                  </a:xfrm>
                  <a:prstGeom prst="rect">
                    <a:avLst/>
                  </a:prstGeom>
                  <a:ln w="50760">
                    <a:solidFill>
                      <a:srgbClr val="000054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nde los virtuosos se for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FEC-932F-49D5-9FDC-9C901CB5EF8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81DC2-FA23-4024-8711-01E5F03327A1}" type="datetime1">
              <a:rPr lang="en-US"/>
              <a:t>07/31/26</a:t>
            </a:fld>
          </a:p>
        </p:txBody>
      </p:sp>
    </p:spTree>
  </p:cSld>
  <p:transition spd="slow" advTm="3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bd189"/>
                </a:solidFill>
                <a:latin typeface="Desdemona"/>
              </a:rPr>
              <a:t>DO RE MI FA SOL LA SI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0080" y="1841400"/>
            <a:ext cx="3438360" cy="486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l finalizar el curso se te entregara un diploma acreditativ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Organización de orquest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943520" y="1757520"/>
          <a:ext cx="3794040" cy="47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3520" y="1757520"/>
                    <a:ext cx="3794040" cy="47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nde los virtuosos se fo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56E-CEA0-445D-B3AB-3DB1A82BD6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7081C-519D-47DE-83A5-A2CC2F650E72}" type="datetime1">
              <a:rPr lang="en-US"/>
              <a:t>07/31/26</a:t>
            </a:fld>
          </a:p>
        </p:txBody>
      </p:sp>
    </p:spTree>
  </p:cSld>
  <p:transition spd="slow" advTm="3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Desdemona"/>
              </a:rPr>
              <a:t>PRECIOS ASEQUIB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6185160" cy="24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Matricula grati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Material a cargo de la empres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Facilidades de pag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58800" y="4560840"/>
          <a:ext cx="619596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4560840"/>
                    <a:ext cx="619596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nde los virtuosos se fo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250-CD32-499D-9DE6-476647EA42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CAA86-8CD7-486E-B159-6E2F72BEE485}" type="datetime1">
              <a:rPr lang="en-US"/>
              <a:t>07/31/26</a:t>
            </a:fld>
          </a:p>
        </p:txBody>
      </p:sp>
    </p:spTree>
  </p:cSld>
  <p:transition spd="slow" advTm="3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7160" y="525600"/>
            <a:ext cx="7080120" cy="253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Desdemona"/>
              </a:rPr>
              <a:t>LLÁMENOS O VENGA A VISITARNOS PERSONALMENTE, LE INFORMAREMOS DE NUESTROS CURS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3240" y="4071960"/>
            <a:ext cx="4581720" cy="198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Telf. 240-00-1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Horario de oficin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9:30 a 20:00 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2520" y="3103560"/>
          <a:ext cx="339084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3103560"/>
                    <a:ext cx="339084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nde los virtuosos se fo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187-F04B-4D54-ACA3-4492015AC3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FEB9B-390D-4B59-9D66-098C8D2A04B0}" type="datetime1">
              <a:rPr lang="en-US"/>
              <a:t>07/31/26</a:t>
            </a:fld>
          </a:p>
        </p:txBody>
      </p:sp>
    </p:spTree>
  </p:cSld>
  <p:transition spd="slow"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4T12:01:42Z</dcterms:created>
  <dc:creator/>
  <dc:description/>
  <dc:language>en-US</dc:language>
  <cp:lastModifiedBy>Ismael Fanlo</cp:lastModifiedBy>
  <cp:lastPrinted>1997-01-24T10:32:14Z</cp:lastPrinted>
  <dcterms:modified xsi:type="dcterms:W3CDTF">2003-06-04T07:57:37Z</dcterms:modified>
  <cp:revision>5</cp:revision>
  <dc:subject/>
  <dc:title>Vender una idea o un producto</dc:title>
</cp:coreProperties>
</file>